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939C-1DA2-46CA-B3DE-99EFD60733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1155-DCAD-43FC-A9B7-58A6543CC0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4378-3F63-4BF9-9829-D09FF742DF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0770-B417-4F52-9740-45BEAE47FD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47245-5D90-49C8-9F34-76EB5CFF61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605C-401E-4E74-80BA-3DCEA98359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8339-0BA6-4ABD-90E8-F51833636C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E42B-2BFE-48D0-9E39-FE27CBE631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79E08-9B0C-447E-9B29-37FE11E0E0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EB22-FE68-4841-B093-2E7093A7E6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0A56-81D0-463B-A567-8165B0E532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0091-91B3-4EAE-BFAE-3F6EF4DA0E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84C3-0FC6-49A6-8954-9F93F269E3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Suç Gelirleri Projesi (PACO), </a:t>
            </a:r>
            <a:r>
              <a:rPr b="0" lang="en-US" sz="1200" spc="-1" strike="noStrike">
                <a:solidFill>
                  <a:srgbClr val="000000"/>
                </a:solidFill>
                <a:latin typeface="Calibri"/>
              </a:rPr>
              <a:t>Avrupa Konseyi,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8AD8-7010-4B54-8564-AAD550E4A3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B127-8446-4B13-B268-BDDD044523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7DC1D-E04B-4E02-B6A9-580EC8E4A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20C6B-B445-44AF-9EE6-3B729792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C393C-BC58-4550-8F86-3B704CA75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1E350-E0DD-4626-A0FC-BC8A7C5FB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5497-09F1-4D78-92CB-A2BE3AB14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C05A5-F763-4DE5-991D-671D09884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9467-6BB4-41BB-88CE-C0D3DEC52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9CA13-D4CD-4598-9848-BBB886042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FA947-0D4C-421D-B9F4-6713D785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91CC8-171B-4BA7-B8D8-181FF07E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1F5C-2B24-427F-88F6-498BBB1CE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70B2-248B-4946-986C-99A6CD356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E7C9-834D-438E-8052-4FD704D1702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Mali Soruşturmal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2. MALİ SORUŞTURMANIN ÖĞELERİ</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2. Mali Soruşturmanın Öğeleri</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un ve failin saptanması (ceza soruşturmasına paralel olarak)</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 gelirlerini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üsadere edilebilecek malları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ondurma emri – müsadereyi güvence altına almayı amaçlayan geçici tedb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07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2800" spc="-1" strike="noStrike">
                <a:solidFill>
                  <a:srgbClr val="000000"/>
                </a:solidFill>
                <a:latin typeface="Calibri"/>
              </a:rPr>
              <a:t>2.1 Suçun ve failin saptanması </a:t>
            </a:r>
            <a:br>
              <a:rPr sz="2800"/>
            </a:br>
            <a:r>
              <a:rPr b="1" lang="tr-TR" sz="2400" spc="-1" strike="noStrike">
                <a:solidFill>
                  <a:srgbClr val="000000"/>
                </a:solidFill>
                <a:latin typeface="Calibri"/>
              </a:rPr>
              <a:t>(ceza soruşturmasına paralel) </a:t>
            </a:r>
            <a:br>
              <a:rPr sz="2400"/>
            </a:br>
            <a:endParaRPr b="0" lang="en-US" sz="2400" spc="-1" strike="noStrike">
              <a:solidFill>
                <a:srgbClr val="000000"/>
              </a:solidFill>
              <a:latin typeface="Calibri"/>
            </a:endParaRPr>
          </a:p>
        </p:txBody>
      </p:sp>
      <p:sp>
        <p:nvSpPr>
          <p:cNvPr id="82" name=""/>
          <p:cNvSpPr txBox="1"/>
          <p:nvPr/>
        </p:nvSpPr>
        <p:spPr>
          <a:xfrm>
            <a:off x="323640" y="2060640"/>
            <a:ext cx="8569080" cy="4176720"/>
          </a:xfrm>
          <a:prstGeom prst="rect">
            <a:avLst/>
          </a:prstGeom>
          <a:noFill/>
          <a:ln w="0">
            <a:noFill/>
          </a:ln>
        </p:spPr>
        <p:txBody>
          <a:bodyPr anchor="t">
            <a:norm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suç (siber suçlar da dahil olmak üzere örgütlü, mali veya klasik suç) soruşturulurken ve suçun öğelerine, faile ve suç ortaklarına ilişkin deliller toplanırken, suçun </a:t>
            </a:r>
            <a:r>
              <a:rPr b="1" lang="tr-TR" sz="2000" spc="-1" strike="noStrike">
                <a:solidFill>
                  <a:srgbClr val="000000"/>
                </a:solidFill>
                <a:latin typeface="Calibri"/>
              </a:rPr>
              <a:t>mal bakımından bir kazanç </a:t>
            </a:r>
            <a:r>
              <a:rPr b="0" lang="tr-TR" sz="2000" spc="-1" strike="noStrike">
                <a:solidFill>
                  <a:srgbClr val="000000"/>
                </a:solidFill>
                <a:latin typeface="Calibri"/>
              </a:rPr>
              <a:t>yarattığı</a:t>
            </a:r>
            <a:r>
              <a:rPr b="1" lang="tr-TR" sz="2000" spc="-1" strike="noStrike">
                <a:solidFill>
                  <a:srgbClr val="000000"/>
                </a:solidFill>
                <a:latin typeface="Calibri"/>
              </a:rPr>
              <a:t> </a:t>
            </a:r>
            <a:r>
              <a:rPr b="0" lang="tr-TR" sz="2000" spc="-1" strike="noStrike">
                <a:solidFill>
                  <a:srgbClr val="000000"/>
                </a:solidFill>
                <a:latin typeface="Calibri"/>
              </a:rPr>
              <a:t>hallerde </a:t>
            </a:r>
            <a:r>
              <a:rPr b="1" lang="tr-TR" sz="2000" spc="-1" strike="noStrike">
                <a:solidFill>
                  <a:srgbClr val="000000"/>
                </a:solidFill>
                <a:latin typeface="Calibri"/>
              </a:rPr>
              <a:t>paralel bir mali soruşturma </a:t>
            </a:r>
            <a:r>
              <a:rPr b="0" lang="tr-TR" sz="2000" spc="-1" strike="noStrike">
                <a:solidFill>
                  <a:srgbClr val="000000"/>
                </a:solidFill>
                <a:latin typeface="Calibri"/>
              </a:rPr>
              <a:t>da yürütülmesi gerekmektedir.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 ne zaman başlatılır? Mali soruşturmayı kim başlatır/yürütü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ilin mal üzerindeki olası tasarrufunu engelleyecek kadar erken bir tarihte</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şüpheli çemberini genişletebili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için de delil toplanması</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Konuyla ilgili iç hukuk (maddi ve usul) hükümlerinin tespiti</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mlu makamların MS (mali soruşturma) yürütmek zorunda kılınması – gelirlerin izlenmesi, dondurulması, müsaderesi</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nın başlatılmasından, yönlendirilmesinden ve yürütülmesinden sorumlu olanların tespiti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el birim (polis/savcı); özel soruşturma uzmanlar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013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4" name=""/>
          <p:cNvSpPr txBox="1"/>
          <p:nvPr/>
        </p:nvSpPr>
        <p:spPr>
          <a:xfrm>
            <a:off x="468360" y="224172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 </a:t>
            </a:r>
            <a:r>
              <a:rPr b="1" lang="tr-TR" sz="1600" spc="-1" strike="noStrike">
                <a:solidFill>
                  <a:srgbClr val="000000"/>
                </a:solidFill>
                <a:latin typeface="Calibri"/>
              </a:rPr>
              <a:t>bir suç unsuru </a:t>
            </a:r>
            <a:r>
              <a:rPr b="0" lang="tr-TR" sz="1600" spc="-1" strike="noStrike">
                <a:solidFill>
                  <a:srgbClr val="000000"/>
                </a:solidFill>
                <a:latin typeface="Calibri"/>
              </a:rPr>
              <a:t>veya </a:t>
            </a:r>
            <a:r>
              <a:rPr b="1" lang="tr-TR" sz="1600" spc="-1" strike="noStrike">
                <a:solidFill>
                  <a:srgbClr val="000000"/>
                </a:solidFill>
                <a:latin typeface="Calibri"/>
              </a:rPr>
              <a:t>suç delili </a:t>
            </a:r>
            <a:r>
              <a:rPr b="0" lang="tr-TR" sz="1600" spc="-1" strike="noStrike">
                <a:solidFill>
                  <a:srgbClr val="000000"/>
                </a:solidFill>
                <a:latin typeface="Calibri"/>
              </a:rPr>
              <a:t>olabilir – (tam, tahmini) miktarın kanıtlanması.</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leri hedef almak: suç ağı, şüpheliler, üçüncü şahıslar.</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Ne kadar müsadere edilebili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kapsamındaki </a:t>
            </a:r>
            <a:r>
              <a:rPr b="1" lang="tr-TR" sz="1800" spc="-1" strike="noStrike">
                <a:solidFill>
                  <a:srgbClr val="000000"/>
                </a:solidFill>
                <a:latin typeface="Calibri"/>
              </a:rPr>
              <a:t>somut suçtan </a:t>
            </a:r>
            <a:r>
              <a:rPr b="0" lang="tr-TR" sz="1800" spc="-1" strike="noStrike">
                <a:solidFill>
                  <a:srgbClr val="000000"/>
                </a:solidFill>
                <a:latin typeface="Calibri"/>
              </a:rPr>
              <a:t>elde edilen gelirlerin (değer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aklanan kara paranın işlem değeri, öncül suçla esnek bağlantı</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enişletilmiş müsadere</a:t>
            </a:r>
            <a:r>
              <a:rPr b="0" lang="tr-TR" sz="1800" spc="-1" strike="noStrike">
                <a:solidFill>
                  <a:srgbClr val="000000"/>
                </a:solidFill>
                <a:latin typeface="Calibri"/>
              </a:rPr>
              <a:t>: malın menşeine dair tersine çevrilmiş ispat yük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oğrudan gelirler ve dolaylı gelirl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ayrisafi hasılat </a:t>
            </a:r>
            <a:r>
              <a:rPr b="0" lang="tr-TR" sz="1800" spc="-1" strike="noStrike">
                <a:solidFill>
                  <a:srgbClr val="000000"/>
                </a:solidFill>
                <a:latin typeface="Calibri"/>
              </a:rPr>
              <a:t>masraflar düşülmeden hesaba katıl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eğer tabanlı müsadere – dondurma işlemi </a:t>
            </a:r>
            <a:r>
              <a:rPr b="1" lang="tr-TR" sz="1800" spc="-1" strike="noStrike">
                <a:solidFill>
                  <a:srgbClr val="000000"/>
                </a:solidFill>
                <a:latin typeface="Calibri"/>
              </a:rPr>
              <a:t>yasal mülkler üzerinde </a:t>
            </a:r>
            <a:r>
              <a:rPr b="0" lang="tr-TR" sz="1800" spc="-1" strike="noStrike">
                <a:solidFill>
                  <a:srgbClr val="000000"/>
                </a:solidFill>
                <a:latin typeface="Calibri"/>
              </a:rPr>
              <a:t>yapılabil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oruşturma yetki ve teknikleri, banka verilerine erişim.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a:t>
            </a:r>
            <a:r>
              <a:rPr b="1" lang="tr-TR" sz="1800" spc="-1" strike="noStrike">
                <a:solidFill>
                  <a:srgbClr val="000000"/>
                </a:solidFill>
                <a:latin typeface="Calibri"/>
              </a:rPr>
              <a:t>miktarının ve türünün tespitine </a:t>
            </a:r>
            <a:r>
              <a:rPr b="0" lang="tr-TR" sz="1800" spc="-1" strike="noStrike">
                <a:solidFill>
                  <a:srgbClr val="000000"/>
                </a:solidFill>
                <a:latin typeface="Calibri"/>
              </a:rPr>
              <a:t>yarayan araçlar:</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zarar gören kişinin şikâyet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izli soruşturma tedbirleri – </a:t>
            </a:r>
            <a:r>
              <a:rPr b="0" lang="tr-TR" sz="1800" spc="-1" strike="noStrike">
                <a:solidFill>
                  <a:srgbClr val="000000"/>
                </a:solidFill>
                <a:latin typeface="Calibri"/>
              </a:rPr>
              <a:t>gelirlerin miktarının tayin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icari evrakların incelenmesi, vergi idaresi ile işbirliğ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anka verilerine erişim</a:t>
            </a:r>
            <a:r>
              <a:rPr b="0" lang="tr-TR"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vduat sahibi, işlemler, takip emri – para akışı ve bağlantılı kişiler</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iber suçlarda ödeme yöntemi – mal olarak </a:t>
            </a:r>
            <a:r>
              <a:rPr b="1" lang="tr-TR" sz="1600" spc="-1" strike="noStrike">
                <a:solidFill>
                  <a:srgbClr val="000000"/>
                </a:solidFill>
                <a:latin typeface="Calibri"/>
              </a:rPr>
              <a:t>sanal para birimi </a:t>
            </a:r>
            <a:r>
              <a:rPr b="0" lang="tr-TR" sz="1600" spc="-1" strike="noStrike">
                <a:solidFill>
                  <a:srgbClr val="000000"/>
                </a:solidFill>
                <a:latin typeface="Calibri"/>
              </a:rPr>
              <a:t>(bitcoin gibi)?</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durumunda </a:t>
            </a:r>
            <a:r>
              <a:rPr b="1" lang="tr-TR" sz="1800" spc="-1" strike="noStrike">
                <a:solidFill>
                  <a:srgbClr val="000000"/>
                </a:solidFill>
                <a:latin typeface="Calibri"/>
              </a:rPr>
              <a:t>MİB’in yetkileri </a:t>
            </a:r>
            <a:r>
              <a:rPr b="0" lang="tr-TR" sz="1800" spc="-1" strike="noStrike">
                <a:solidFill>
                  <a:srgbClr val="000000"/>
                </a:solidFill>
                <a:latin typeface="Calibri"/>
              </a:rPr>
              <a:t>değerlendirilmelidir.</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bilgilerine erişim, inceleme, yurtdışındaki banka bilgilerine erişim ve idari olarak hesap dondurma imkânı.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Özel soruşturma tekniklerinin kullanımı ve banka bilgilerine (mevduat sahibi, işlemler ve takip) erişim konusundaki iç hukuk hükümleri nelerdir? Bkz. Varşova Sözleşmesi 7. madde.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3 Müsadere edilecek malların tespiti</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Hangi mallar dondurulabilir/müsadere edilebilir?</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lular suç gelirlerini ve mallarını gizler – yurtdışında da gizleyebilir (bkz. uluslararası işbirliği bölümü), </a:t>
            </a:r>
            <a:r>
              <a:rPr b="1" lang="tr-TR" sz="1600" spc="-1" strike="noStrike">
                <a:solidFill>
                  <a:srgbClr val="000000"/>
                </a:solidFill>
                <a:latin typeface="Calibri"/>
              </a:rPr>
              <a:t>ilgili üçüncü şahıslara ve tüzel kişilere de odaklanın</a:t>
            </a:r>
            <a:r>
              <a:rPr b="0" lang="tr-TR"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un doğrudan gelirleri müsadere edilemiyorsa (bulunamıyorsa), yasadışı gelirlerin değerine tekabül eden (yasal) malların müsaderesi mümkündü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kişinin </a:t>
            </a:r>
            <a:r>
              <a:rPr b="1" lang="tr-TR" sz="1600" spc="-1" strike="noStrike">
                <a:solidFill>
                  <a:srgbClr val="000000"/>
                </a:solidFill>
                <a:latin typeface="Calibri"/>
              </a:rPr>
              <a:t>gelirine ve mallarına </a:t>
            </a:r>
            <a:r>
              <a:rPr b="0" lang="tr-TR" sz="1600" spc="-1" strike="noStrike">
                <a:solidFill>
                  <a:srgbClr val="000000"/>
                </a:solidFill>
                <a:latin typeface="Calibri"/>
              </a:rPr>
              <a:t>ilişkin bilgiler gelir vergisi beyannamesinden (gerçek kişiler) veya vergi beyannamesinden ya da kâr ve zarar tablosundan (şirketler) edinilebili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Vergi idaresi </a:t>
            </a:r>
            <a:r>
              <a:rPr b="0" lang="tr-TR" sz="1600" spc="-1" strike="noStrike">
                <a:solidFill>
                  <a:srgbClr val="000000"/>
                </a:solidFill>
                <a:latin typeface="Calibri"/>
              </a:rPr>
              <a:t>ile işbirliği (ve uygun yasal dayanak)</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ok yönlü işbirliği: veri tabanlarına katılmak için görev güc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şüphelinin yasal (bildirilmiş) malları ile fiili malları </a:t>
            </a:r>
            <a:r>
              <a:rPr b="1" lang="tr-TR" sz="1600" spc="-1" strike="noStrike">
                <a:solidFill>
                  <a:srgbClr val="000000"/>
                </a:solidFill>
                <a:latin typeface="Calibri"/>
              </a:rPr>
              <a:t>arasındaki orantısızlığı </a:t>
            </a:r>
            <a:r>
              <a:rPr b="0" lang="tr-TR" sz="1600" spc="-1" strike="noStrike">
                <a:solidFill>
                  <a:srgbClr val="000000"/>
                </a:solidFill>
                <a:latin typeface="Calibri"/>
              </a:rPr>
              <a:t>ortaya çıkartabilir. Genişletilmiş müsadere? Vergilendirm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Üçüncü şahıslardan da dahil olmak üzere müsadere edilebilecek mallara ilişkin iç hukuk hükümleri nelerdir? Bkz. Varşova Sözleşmesi 5. madde ve Direktif 6. mad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anka bilgilerine (mevduat sahipleri merkezi kayıt sistemi), hisselere, tapu siciline, menkullere, vergi beyannamelerine erişim ve vergi idaresi gibi ilgili kurumlarla işbirliği konusundaki iç hukuk hükümleri nelerd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emri</a:t>
            </a: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a:t>
            </a:r>
            <a:r>
              <a:rPr b="1" lang="tr-TR" sz="2200" spc="-1" strike="noStrike">
                <a:solidFill>
                  <a:srgbClr val="000000"/>
                </a:solidFill>
                <a:latin typeface="Calibri"/>
              </a:rPr>
              <a:t>Dondurma veya el koyma”</a:t>
            </a:r>
            <a:r>
              <a:rPr b="0" lang="tr-TR" sz="22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Polis değer tabanlı müsadereyi güvence altına almak için ev araması sırasında mallara (doğrudan gelirler dışında) el koyabilir mi?</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Hukuki itiraz yollarına imkân sağlanması için bunun ardından mahkemeden bir dondurma kararı mı çıkartılması gereki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Dondurma (geçici olarak güvenceye alma) kararı</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Zamanlama: (Gizli) ceza soruşturmasındaki fayda değerlendirili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zı ülkelerde özel hukuk mevzuatına (ihtiyati tedbirler) da atıfta bulunan ceza usul hukuku hükümlerinde tanımlan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4 Dondurma emri</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emri bir mali soruşturma sonunda öneril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Şu şart ve koşullar yerine getirilmelidi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ir suçun varlığına ve neticesinde kazanç (meblağ) edilmesine ilişkin olasılık (ya da şüphe uyandıran sebeplerden daha yüksek bir kanıt standardı),</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lunun kazançları saklama veya ortadan kaldırma veya el koyma işlemini başka bir şekilde imkânsız kılma tehlikes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kararının önerilmesine ilişkin unsurlar (mali soruşturma bulguları):</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 ve fail ile ilişkili bulgu ve deliller (bu normalde suç dosyasının bir parçasıd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türü ve miktarı ile ilgili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l konulabilecek mallara ilişkin bulgular ve güvence altına alınması gereken malları ve bu malların ait olduğu kişileri gösteren öneri, halihazırda herhangi bir mala el konulup konulmadığına dair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öyle bir karar çıkartılmasına yönelik yasal koşulların varlığına ilişkin gerekçeler (kanıt standardı, malın elden çıkarılması tehlike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kararı</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Bir dondurma kararının uygulanma niteliği, kapsamı ve zamanlamasını hangi faktörler etk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3. SUÇ GELİRLERİNİN MÜSADERESİ</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Müsadere’</a:t>
            </a:r>
            <a:r>
              <a:rPr b="0" lang="tr-TR" sz="2000" spc="-1" strike="noStrike">
                <a:solidFill>
                  <a:srgbClr val="000000"/>
                </a:solidFill>
                <a:latin typeface="Calibri"/>
              </a:rPr>
              <a:t>: ceza gerektiren suçla ilgili olarak bir mahkeme tarafından hükmedilen, mülkiyetten kesin olarak yoksun bırakma anlamına gelmektedir (Varşova Sözleşmesi bunu bir ceza veya tedbir olarak tanımlamaktadı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önerilmesi bakımından savcının rol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ve icrası) hakkındaki iç hukuk hükümleri nelerdir? Bkz. Varşova Sözleşmesi 3. madde ve Direktif 4, 6 ve 9.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Mağdurun mala ilişkin iddiası ile bağlantı</a:t>
            </a: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Mülkiyete ilişkin iddia, gelirlerin müsaderesinden üstündür. Zarar gören taraf bir yandan polise suçla ilgili şikâyette bulunurken, bir yandan da mülkiyete ilişkin bir iddiada bulunabilir. Mahkeme bu iddia hakkında bir karara varmak durumundadır, meğer ki söz konusu karar ceza usulünü orantısız şekilde uzatacak olsun. Bu durumda zarar gören taraf özel hukuk davasına yönlendirilir. Mahkeme iddia hakkında karar verecek olursa, müsadere edilen gelirler öncelikle zararların karşılanması amacıyla kullanılır ve yasadışı gelirlerin geri kalan kısmı bütçenin parçası haline gel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Konuyla ilgili iç hukuk hükümleri nelerdir? Bkz. Direktif 8. mad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Genişletilmiş müsadere</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Fiiliyattaki tecrübeler suçu işleyen kişinin mallarının menşeini suça dayandırmanın çoğu zaman son derece güç veya hatta imkânsız olduğunu göstermektedi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lın menşei (suç değil) açısından ispat yükünün tersine çevrilmesi</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hukuk belgelerince (Varşova Sözleşmesi ve Direktif) de desteklenmektedi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İHM içtihadı</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Ceza usul ve ayrıca (hukuk) usul açısından: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irektif, Üye Devletlere </a:t>
            </a:r>
            <a:r>
              <a:rPr b="1" lang="tr-TR" sz="1400" spc="-1" strike="noStrike">
                <a:solidFill>
                  <a:srgbClr val="000000"/>
                </a:solidFill>
                <a:latin typeface="Calibri"/>
              </a:rPr>
              <a:t>genişletilmiş müsadere </a:t>
            </a:r>
            <a:r>
              <a:rPr b="0" lang="tr-TR" sz="1400" spc="-1" strike="noStrike">
                <a:solidFill>
                  <a:srgbClr val="000000"/>
                </a:solidFill>
                <a:latin typeface="Calibri"/>
              </a:rPr>
              <a:t>konusunu düzenleme yükümlülüğü getirmektedir: mahkeme malların </a:t>
            </a:r>
            <a:r>
              <a:rPr b="1" lang="tr-TR" sz="1400" spc="-1" strike="noStrike">
                <a:solidFill>
                  <a:srgbClr val="000000"/>
                </a:solidFill>
                <a:latin typeface="Calibri"/>
              </a:rPr>
              <a:t>suç niteliği taşıyan davranışlardan </a:t>
            </a:r>
            <a:r>
              <a:rPr b="0" lang="tr-TR" sz="1400" spc="-1" strike="noStrike">
                <a:solidFill>
                  <a:srgbClr val="000000"/>
                </a:solidFill>
                <a:latin typeface="Calibri"/>
              </a:rPr>
              <a:t>kaynaklandığına </a:t>
            </a:r>
            <a:r>
              <a:rPr b="1" lang="tr-TR" sz="1400" spc="-1" strike="noStrike">
                <a:solidFill>
                  <a:srgbClr val="000000"/>
                </a:solidFill>
                <a:latin typeface="Calibri"/>
              </a:rPr>
              <a:t>kanaat getirecek </a:t>
            </a:r>
            <a:r>
              <a:rPr b="0" lang="tr-TR" sz="1400" spc="-1" strike="noStrike">
                <a:solidFill>
                  <a:srgbClr val="000000"/>
                </a:solidFill>
                <a:latin typeface="Calibri"/>
              </a:rPr>
              <a:t>olursa, örneğin malın değeri hüküm giyen kişinin yasal geliriyle orantısızs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Mahkûmiyet kararı olmaksızın (özel hukuk kapsamında) müsadere: </a:t>
            </a:r>
            <a:r>
              <a:rPr b="0" lang="tr-TR" sz="1400" spc="-1" strike="noStrike">
                <a:solidFill>
                  <a:srgbClr val="000000"/>
                </a:solidFill>
                <a:latin typeface="Calibri"/>
              </a:rPr>
              <a:t>2005/212/JHA sayılı çerçeve karar (3-4. madde): Üye Devletlere ceza yargılama usulünden başka usulleri kullanma seçeneği sunmaktaydı; Direktif’te sadece 10. maddedeki seçenek yer almaktadı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Genişletilmiş müsadereye ve/veya özel hukuk kapsamında müsadereye ilişkin iç hukuk hükümleri nelerdir? Bkz. Sözleşme 3. ve 4. madde ve Direktif 5. madd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 Bağlantılı meseleler</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4. Bağlantılı Meseleler</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Dondurulmuş ve müsadere edilmiş malların idaresi</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Mali soruşturmalar, dondurma ve müsadere konulu istatistikler</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Kurumsal boy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1 Dondurulmuş ve müsadere edilmiş </a:t>
            </a:r>
            <a:br>
              <a:rPr sz="3200"/>
            </a:br>
            <a:r>
              <a:rPr b="1" lang="tr-TR" sz="3200" spc="-1" strike="noStrike">
                <a:solidFill>
                  <a:srgbClr val="000000"/>
                </a:solidFill>
                <a:latin typeface="Calibri"/>
              </a:rPr>
              <a:t>malların idaresi</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dareden sorumlu mak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Dondurulmuş/müsadere edilmiş malların idaresine ilişkin kural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ndurulmuş malların satışına ilişkin yetkil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 Direktif 10. madde ve Varşova Sözleşmesi 6.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2 Mali soruşturmalar, dondurma ve </a:t>
            </a:r>
            <a:br>
              <a:rPr sz="3200"/>
            </a:br>
            <a:r>
              <a:rPr b="1" lang="tr-TR" sz="3200" spc="-1" strike="noStrike">
                <a:solidFill>
                  <a:srgbClr val="000000"/>
                </a:solidFill>
                <a:latin typeface="Calibri"/>
              </a:rPr>
              <a:t>müsadere konulu istatistikler</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Tutulan istatistiksel verilere ilişkin durumu açıklayınız (hukuki dayana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dinilen malların/gelirlerin mali açıdan soruşturulması ve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ma emirleri ve (yurt içinde ve dışında) dondurulan malların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ulan malların idaresi (ve tasarruf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an 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mayı bekleyen müsadere kararları</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işbirliği – dondurma kararları, müsadere emirleri ve malvarlığı paylaşımı için banka verilerine (mevduat sahibi bilgileri, işlemler, takip emri) erişim konusunda karşılıklı adli yardım.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Kaydınız merkezileştirilmiş 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ayırsa, ilgili kurumlar (emniyet, savcılık, mahkemeler, MİB) veri toplamak ve bu verilerin örneğin yıllık bir raporda sunulması konusunda işbirliğinde bulunuyor m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Suçların sayısı, kara para aklama suçunun sayısı ve siber suçlar ile ilgili istatistikleri belirtiniz.</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4.3 Kurumsal boyu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64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vcılı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ruşturmaları yürütür, tedbirleri alır, mahkemeye öneride bulunu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iber suçlar birimi</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Dijital adli bilimler (bazen ayr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P numarasının tespit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bone tespiti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ternet hizmet sağlayıcı ilişkisi (abone, trafik, içerik veri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ğer birimler</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li soruşturm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akip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l koy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 </a:t>
                      </a:r>
                      <a:r>
                        <a:rPr b="0" lang="sl-SI"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a para aklama - MİB</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Calibri"/>
              </a:rPr>
              <a:t>4.3 Kurumlararası İşbirliği</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3 Kurumsal boyu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ğitmen şu hususlara ilişkin ulusal durumu açıklayacaktır: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niyet/savcılık/mahkeme düzeyinde uzman bir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ber suçl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delil (adli bil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ndurulmuş/müsadere edilmiş malların idaresine ilişkin biri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kurumlararası işbirliği</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ve emniyet, vergi idaresi, MİB ve diğer kurumların (muhasebe, siber uzmanlar vs.) katılımıyla görev gücü yaklaşım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örev gücü yaklaşımına ilişkin yasal hüküml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1. GİRİŞ</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ALİ SORUŞTURMALAR VE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RA PARA AKLAMA SUÇ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 (ve ceza soruşturması) neticesinde paranın menşeinin gizlenmesine yönelik kara para aklama tipolojilerinin tespiti ve böylelikle bir kara para aklama suçu şüphesi söz konusu olabilir.</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r Mali İstihbarat Birimi (MİB) tarafından gerçekleştirilen Şüpheli İşlem Bildirimi analizi de (öncül) suçların ve bunlarla bağlantılı gelirlerin soruşturulmasına yol açabilir.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 koşullar karşılandığında, </a:t>
            </a:r>
            <a:r>
              <a:rPr b="1" lang="tr-TR" sz="1900" spc="-1" strike="noStrike">
                <a:solidFill>
                  <a:srgbClr val="000000"/>
                </a:solidFill>
                <a:latin typeface="Calibri"/>
              </a:rPr>
              <a:t>MİB harekete geçebilir </a:t>
            </a:r>
            <a:r>
              <a:rPr b="0" lang="tr-TR" sz="1900" spc="-1" strike="noStrike">
                <a:solidFill>
                  <a:srgbClr val="000000"/>
                </a:solidFill>
                <a:latin typeface="Calibri"/>
              </a:rPr>
              <a:t>ve şu yetkileri kullanabilir: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yurt içinde ve dışında banka verilerine (şüpheli işlem bildirimi) erişim</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nalitik inceleme kapasites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anka işlemini yurt içinde ve dışında gecikmeksizin askıya almak.</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ve Mali Soruşturmalar</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za soruşturması ve mali soruşturma</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ç</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lirler</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ra para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klama</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Şüpheli işlemlerin izlenmesi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e soruşturulması</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B</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niyet ve Savcılık</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RTIŞMA</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unun gerekli öğeleri konusunda iç hukuk mevzuatı ve içtihat (konuyla ilgili kararlar da dahil) ne söylemekte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iiliyatta bir Mali Soruşturma Kara Para Aklama suçlamasıyla sonuçlanır m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laması öncül suç suçlamasından daha etkili olabilir mi?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İB verileri ceza yargılamasında delil olarak kullanılabilir 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601880"/>
        </p:xfrm>
        <a:graphic>
          <a:graphicData uri="http://schemas.openxmlformats.org/drawingml/2006/table">
            <a:tbl>
              <a:tblPr/>
              <a:tblGrid>
                <a:gridCol w="3959280"/>
                <a:gridCol w="4105080"/>
              </a:tblGrid>
              <a:tr h="460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Şu konulara dair </a:t>
                      </a:r>
                      <a:r>
                        <a:rPr b="1" lang="sl-SI" sz="2000" spc="-1" strike="noStrike" u="sng">
                          <a:solidFill>
                            <a:srgbClr val="000000"/>
                          </a:solidFill>
                          <a:uFillTx/>
                          <a:latin typeface="Calibri"/>
                        </a:rPr>
                        <a:t>iç hukuk mevzuatını</a:t>
                      </a:r>
                      <a:r>
                        <a:rPr b="1" lang="sl-SI" sz="2000" spc="-1" strike="noStrike">
                          <a:solidFill>
                            <a:srgbClr val="000000"/>
                          </a:solidFill>
                          <a:latin typeface="Calibri"/>
                        </a:rPr>
                        <a:t> ve içtihadını değerlendiri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şlemin/malların donduru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Suç gelirlerinin müsader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Kara para aklama suç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Şu konulara dair </a:t>
                      </a:r>
                      <a:r>
                        <a:rPr b="1" lang="en-US" sz="2000" spc="-1" strike="noStrike" u="sng">
                          <a:solidFill>
                            <a:srgbClr val="000000"/>
                          </a:solidFill>
                          <a:uFillTx/>
                          <a:latin typeface="Calibri"/>
                        </a:rPr>
                        <a:t>şablon/formlar </a:t>
                      </a:r>
                      <a:r>
                        <a:rPr b="1" lang="en-US" sz="2000" spc="-1" strike="noStrike">
                          <a:solidFill>
                            <a:srgbClr val="00000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tr-TR" sz="2000" spc="-1" strike="noStrike">
                          <a:solidFill>
                            <a:srgbClr val="002060"/>
                          </a:solidFill>
                          <a:latin typeface="Calibri"/>
                        </a:rPr>
                        <a:t>Dondurma emri 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üsadere kararı (kararın bir kısmı?)</a:t>
                      </a:r>
                      <a:r>
                        <a:rPr b="0" lang="sl-SI" sz="2000" spc="-1" strike="noStrike">
                          <a:solidFill>
                            <a:srgbClr val="002060"/>
                          </a:solidFill>
                          <a:latin typeface="Calibri"/>
                        </a:rPr>
                        <a:t> </a:t>
                      </a:r>
                      <a:r>
                        <a:rPr b="0" lang="tr-TR" sz="2000" spc="-1" strike="noStrike">
                          <a:solidFill>
                            <a:srgbClr val="002060"/>
                          </a:solidFill>
                          <a:latin typeface="Calibri"/>
                        </a:rPr>
                        <a:t>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İB’in bankaya mali işlemin ertelenmesine yönelik talimat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1. Giriş</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tan elde edilen gelirler neden müsadere ediliy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ali soruşturma nedi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hukuk belgeler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rimlerin tanım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428840"/>
            <a:ext cx="869796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1 Suçtan elde edilen gelirler neden müsadere ediliyor?</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fontScale="96000"/>
          </a:bodyPr>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u="sng">
                <a:solidFill>
                  <a:srgbClr val="000000"/>
                </a:solidFill>
                <a:uFillTx/>
                <a:latin typeface="Calibri"/>
              </a:rPr>
              <a:t>Siber suçlar da dahil olmak üzere</a:t>
            </a:r>
            <a:r>
              <a:rPr b="0" lang="tr-TR" sz="1900" spc="-1" strike="noStrike">
                <a:solidFill>
                  <a:srgbClr val="000000"/>
                </a:solidFill>
                <a:latin typeface="Calibri"/>
              </a:rPr>
              <a:t>, ağır ve örgütlü suçların temel amaçlarından biri maddi kazanç elde edilmesidir.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tan elde edilen gelirlerin müsaderesinin etkileri: </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ların çoğu iktisadi kazanç amacıyla işlendiğinden, müsadere önleyicidi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sadışı kazançların ve yolsuzluğun yasal ekonomiye sızmasını önle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elecekte suç işleme vasıtasını ortadan kaldırı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ir suç örgütünün üst yönetiminin hedef alınmasına yardımcı olu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Hukukun üstünlüğünü ve kimsenin suçtan fayda sağlamaması gerektiği prensibini destekler.</a:t>
            </a:r>
            <a:endParaRPr b="0" lang="en-US" sz="17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ÜSADERE işleminin aşamaları</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oruşturma aşaması – mali soruşturma</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rgı aşaması – müsadere kararı</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lden çıkarma aşaması – icra, varlık paylaşımı</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2 Mali soruşturma nedir?</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8000"/>
          </a:bodyPr>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bir </a:t>
            </a:r>
            <a:r>
              <a:rPr b="1" lang="tr-TR" sz="1600" spc="-1" strike="noStrike">
                <a:solidFill>
                  <a:srgbClr val="000000"/>
                </a:solidFill>
                <a:latin typeface="Calibri"/>
              </a:rPr>
              <a:t>soruşturma yöntemidir </a:t>
            </a:r>
            <a:r>
              <a:rPr b="0" lang="tr-TR" sz="1600" spc="-1" strike="noStrike">
                <a:solidFill>
                  <a:srgbClr val="000000"/>
                </a:solidFill>
                <a:latin typeface="Calibri"/>
              </a:rPr>
              <a:t>ve </a:t>
            </a:r>
            <a:r>
              <a:rPr b="1" lang="tr-TR" sz="1600" spc="-1" strike="noStrike">
                <a:solidFill>
                  <a:srgbClr val="000000"/>
                </a:solidFill>
                <a:latin typeface="Calibri"/>
              </a:rPr>
              <a:t>kazanç sağlayan bir suça </a:t>
            </a:r>
            <a:r>
              <a:rPr b="0" lang="tr-TR" sz="1600" spc="-1" strike="noStrike">
                <a:solidFill>
                  <a:srgbClr val="000000"/>
                </a:solidFill>
                <a:latin typeface="Calibri"/>
              </a:rPr>
              <a:t>yönelik sürdürülen ceza soruşturmasına </a:t>
            </a:r>
            <a:r>
              <a:rPr b="1" lang="tr-TR" sz="1600" spc="-1" strike="noStrike">
                <a:solidFill>
                  <a:srgbClr val="000000"/>
                </a:solidFill>
                <a:latin typeface="Calibri"/>
              </a:rPr>
              <a:t>paralel olarak</a:t>
            </a:r>
            <a:r>
              <a:rPr b="0" lang="tr-TR" sz="1600" spc="-1" strike="noStrike">
                <a:solidFill>
                  <a:srgbClr val="000000"/>
                </a:solidFill>
                <a:latin typeface="Calibri"/>
              </a:rPr>
              <a:t>, esasen (fakat münhasıran değil) suçtan elde edilen </a:t>
            </a:r>
            <a:r>
              <a:rPr b="1" lang="tr-TR" sz="1600" spc="-1" strike="noStrike">
                <a:solidFill>
                  <a:srgbClr val="000000"/>
                </a:solidFill>
                <a:latin typeface="Calibri"/>
              </a:rPr>
              <a:t>gelirlerin </a:t>
            </a:r>
            <a:r>
              <a:rPr b="0" lang="tr-TR" sz="1600" spc="-1" strike="noStrike">
                <a:solidFill>
                  <a:srgbClr val="000000"/>
                </a:solidFill>
                <a:latin typeface="Calibri"/>
              </a:rPr>
              <a:t>nihayetinde müsadere edilmek üzere </a:t>
            </a:r>
            <a:r>
              <a:rPr b="1" lang="tr-TR" sz="1600" spc="-1" strike="noStrike">
                <a:solidFill>
                  <a:srgbClr val="000000"/>
                </a:solidFill>
                <a:latin typeface="Calibri"/>
              </a:rPr>
              <a:t>takip edilip dondurulması amacıyla </a:t>
            </a:r>
            <a:r>
              <a:rPr b="0" lang="tr-TR" sz="1600" spc="-1" strike="noStrike">
                <a:solidFill>
                  <a:srgbClr val="000000"/>
                </a:solidFill>
                <a:latin typeface="Calibri"/>
              </a:rPr>
              <a:t>yürütülmelidir.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Eylem Görev Gücü (FATF) tarafından tanımlandığı haliyle mali soruşturma:</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 faaliyetiyle bağlantılı mali işlere yönelik aşağıdaki amaçları taşıyan tahkik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ağlarının kapsamının veya suçluluk ölçeğinin tespit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tan elde edilen gelirlerin, terörist para kaynaklarının veya müsadereye konu olan veya olabilecek başkaca her türlü malvarlığının tespiti ve takib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 ceza yargılamalarında kullanılabilecek delillerin geliştirilmesi.</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gelirlerinin meşrulaştırılması ve hiç değilse kısmen yasal ekonomi içinde yeniden kullanıma sokulması amaçlandığından, mali soruşturmalar </a:t>
            </a:r>
            <a:r>
              <a:rPr b="1" lang="tr-TR" sz="1600" spc="-1" strike="noStrike">
                <a:solidFill>
                  <a:srgbClr val="000000"/>
                </a:solidFill>
                <a:latin typeface="Calibri"/>
              </a:rPr>
              <a:t>kara para aklama </a:t>
            </a:r>
            <a:r>
              <a:rPr b="0" lang="tr-TR" sz="1600" spc="-1" strike="noStrike">
                <a:solidFill>
                  <a:srgbClr val="000000"/>
                </a:solidFill>
                <a:latin typeface="Calibri"/>
              </a:rPr>
              <a:t>soruşturmalarıyla bağlantılı olabilir ve/veya netice olarak bu tür soruşturmalara yol açabilir. Mali soruşturmalar sonucunda </a:t>
            </a:r>
            <a:r>
              <a:rPr b="1" lang="tr-TR" sz="1600" spc="-1" strike="noStrike">
                <a:solidFill>
                  <a:srgbClr val="000000"/>
                </a:solidFill>
                <a:latin typeface="Calibri"/>
              </a:rPr>
              <a:t>kara para aklama </a:t>
            </a:r>
            <a:r>
              <a:rPr b="0" lang="tr-TR" sz="1600" spc="-1" strike="noStrike">
                <a:solidFill>
                  <a:srgbClr val="000000"/>
                </a:solidFill>
                <a:latin typeface="Calibri"/>
              </a:rPr>
              <a:t>suçuyla ilgili şüphelere ulaşılabileceği gibi tam tersi de söz konusu olabilir.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ali soruşturma ulusal hukukta nasıl tanımlanmaktadı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Kimse suçtan fayda sağlamamalı ve suç gelirlerini muhafaza etmemelidir.”</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Müsaderesi ve Terörizmin Finansmanına ilişkin 2005 tarihli Avrupa Konseyi Sözleşmesi </a:t>
            </a:r>
            <a:r>
              <a:rPr b="0" lang="tr-TR" sz="2000" spc="-1" strike="noStrike">
                <a:solidFill>
                  <a:srgbClr val="000000"/>
                </a:solidFill>
                <a:latin typeface="Calibri"/>
              </a:rPr>
              <a:t>(Varşova Sözleşmesi), şu sözleşmenin yerine geçmiştir</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ve Müsaderesine ilişkin 1990 tarihli Avrupa Konseyi Sözleşmesi </a:t>
            </a:r>
            <a:r>
              <a:rPr b="0" lang="tr-TR" sz="2000" spc="-1" strike="noStrike">
                <a:solidFill>
                  <a:srgbClr val="000000"/>
                </a:solidFill>
                <a:latin typeface="Calibri"/>
              </a:rPr>
              <a:t>(Strazburg Sözleşmes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leşmiş Milletler</a:t>
            </a:r>
            <a:r>
              <a:rPr b="0" lang="tr-TR" sz="2000" spc="-1" strike="noStrike">
                <a:solidFill>
                  <a:srgbClr val="000000"/>
                </a:solidFill>
                <a:latin typeface="Calibri"/>
              </a:rPr>
              <a:t>: uyuşturucu, sınır aşan örgütlü suç ve yolsuzluk ile mücadele sözleşmeler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n olarak, mali soruşturmalar Karşılıklı Adli Yardım (KAY) sözleşmeleri kullanılmak suretiyle ulusal hukuka dayalı olarak yürütülmektedi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 - AB</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vrupa Birliği’nde suç araçlarının ve gelirlerinin dondurulması ve müsaderesi hakkında </a:t>
            </a:r>
            <a:r>
              <a:rPr b="1" lang="tr-TR" sz="1900" spc="-1" strike="noStrike">
                <a:solidFill>
                  <a:srgbClr val="000000"/>
                </a:solidFill>
                <a:latin typeface="Calibri"/>
              </a:rPr>
              <a:t>2014/42/EU sayılı Direktif</a:t>
            </a:r>
            <a:endParaRPr b="0" lang="en-US" sz="19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mülga) Ortak Eylem 98/699/JHA </a:t>
            </a:r>
            <a:endParaRPr b="0" lang="en-US" sz="1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 para aklanması, suç araçlarının ve gelirlerinin tespiti, izlenmesi, dondurulması ve müsaderesi hakkında </a:t>
            </a:r>
            <a:r>
              <a:rPr b="1" lang="tr-TR" sz="1900" spc="-1" strike="noStrike">
                <a:solidFill>
                  <a:srgbClr val="000000"/>
                </a:solidFill>
                <a:latin typeface="Calibri"/>
              </a:rPr>
              <a:t>2001/500/JHA sayılı Çerçeve Karar </a:t>
            </a:r>
            <a:r>
              <a:rPr b="0" lang="tr-TR" sz="1900" spc="-1" strike="noStrike">
                <a:solidFill>
                  <a:srgbClr val="000000"/>
                </a:solidFill>
                <a:latin typeface="Calibri"/>
              </a:rPr>
              <a:t>v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la bağlantılı gelirler, suç araçları ve mülklerin müsaderesi hakkında </a:t>
            </a:r>
            <a:r>
              <a:rPr b="1" lang="tr-TR" sz="1900" spc="-1" strike="noStrike">
                <a:solidFill>
                  <a:srgbClr val="000000"/>
                </a:solidFill>
                <a:latin typeface="Calibri"/>
              </a:rPr>
              <a:t>2005/212/JHA sayılı Çerçeve Karar</a:t>
            </a:r>
            <a:endParaRPr b="0" lang="en-US" sz="1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şılıklı tanıma:</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Malvarlığının dondurulmasına ilişkin kararların uygulanmasına ilişkin 2003/577/JHA sayılı Çerçeve Karar ve Müsadere kararlarına ilişkin 2006/783/JHA sayılı Çerçeve Karar.</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veya suçla bağlantılı başkaca malların izlenmesi ve tespiti alanında Üye Devletlerin </a:t>
            </a:r>
            <a:r>
              <a:rPr b="1" lang="tr-TR" sz="1700" spc="-1" strike="noStrike">
                <a:solidFill>
                  <a:srgbClr val="000000"/>
                </a:solidFill>
                <a:latin typeface="Calibri"/>
              </a:rPr>
              <a:t>Varlık Geri Kazanım Büroları </a:t>
            </a:r>
            <a:r>
              <a:rPr b="0" lang="tr-TR" sz="1700" spc="-1" strike="noStrike">
                <a:solidFill>
                  <a:srgbClr val="000000"/>
                </a:solidFill>
                <a:latin typeface="Calibri"/>
              </a:rPr>
              <a:t>arasında işbirliğine ilişkin 2007/845/JHA sayılı Konsey Kararı.</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tr-TR" sz="3600" spc="-1" strike="noStrike">
                <a:solidFill>
                  <a:srgbClr val="000000"/>
                </a:solidFill>
                <a:latin typeface="Calibri"/>
              </a:rPr>
              <a:t>1.4 Terimlerin tanımları</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al</a:t>
            </a:r>
            <a:r>
              <a:rPr b="0" lang="tr-TR" sz="1600" spc="-1" strike="noStrike">
                <a:solidFill>
                  <a:srgbClr val="000000"/>
                </a:solidFill>
                <a:latin typeface="Calibri"/>
              </a:rPr>
              <a:t>” maddi veya manevi, menkul veya gayrimenkul her çeşit mal ve bu tür bir mal üzerindeki hakkı veya menfaati gösteren hukuki belgeler veya senetler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Suç araçları</a:t>
            </a:r>
            <a:r>
              <a:rPr b="0" lang="tr-TR" sz="1600" spc="-1" strike="noStrike">
                <a:solidFill>
                  <a:srgbClr val="000000"/>
                </a:solidFill>
                <a:latin typeface="Calibri"/>
              </a:rPr>
              <a:t>” ceza gerektiren suçu veya suçları işlemek için kısmen veya tümüyle herhangi bir şekilde kullanılan veya kullanılması amaçlanan herhangi bir mal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Dondurma veya el koyma</a:t>
            </a:r>
            <a:r>
              <a:rPr b="0" lang="tr-TR" sz="16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üsadere”</a:t>
            </a:r>
            <a:r>
              <a:rPr b="0" lang="tr-TR" sz="1600" spc="-1" strike="noStrike">
                <a:solidFill>
                  <a:srgbClr val="000000"/>
                </a:solidFill>
                <a:latin typeface="Calibri"/>
              </a:rPr>
              <a:t> ceza gerektiren suçla ilgili olarak bir mahkeme tarafından hükmedilen, mülkiyetten kesin olarak yoksun bırakma anlamına gelmektedir.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Konuyla ilgili iç hukuk hükümlerini belirtiniz ve bunları yukarıdaki tanımlarla karşılaştırınız.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3T14:41:06Z</dcterms:modified>
  <cp:revision>476</cp:revision>
  <dc:subject/>
  <dc:title>PowerPoint Presentation</dc:title>
</cp:coreProperties>
</file>